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A7CB-1A60-4860-B16C-2C93F48F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D582-068F-4FF2-A00D-76FB79FF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35A2-F999-41E3-A771-FED3BED3A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A471-242A-4E95-BE2B-4D7D6D82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5E42-BC99-4174-B514-EB818AC4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A80D-45C4-4F1B-A1F6-52D3806C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4D03-6CD6-4E42-93CF-ACA775FE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502A-6C6B-41C5-9806-22594E3C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B7E6-9043-47B1-9A19-C90B2464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B621-13DD-4B79-BA5A-D39025F0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C296-F7E8-4354-B969-348F8061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42FD-41D0-497D-8851-4E77F873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8647-6EA4-40CE-92A0-BC677D53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55E0-AC96-44E9-B9F9-D9741C93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2E97-A0D6-4F19-ADBE-111F5450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1B8C-7AA4-4DDE-A0C9-EA9B99F3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93D5-21B7-4232-BEDC-4AE7D103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5E2AD-57C9-4740-91E8-4B0BFE1B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10289-5EB3-4231-8DD2-9DD6C57B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C2801-CF91-411A-9ED1-15C0C2ED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58215-B049-4D34-B21E-319189DE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83BB4-DE9C-4FB2-9D15-AB555109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798F-7498-454D-8450-EFD288A8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317DC-C019-4C29-AFC4-811F47A8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2F4BE-4F28-4F42-A8EF-8B917DC7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B4594-0545-4AF0-A30E-F980DA43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5BC2B-13B7-4CA5-9D8F-716FB703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5CC89-865C-4F56-8810-E0888BCC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E16A4-2C02-4D15-88C6-BD033D8A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FD77C-EE9C-44FD-B0AE-E16BA251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31B08-C5C7-4DD1-9776-F55A92A8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CE3CF-806D-4920-AD11-221848E1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B3AF8-6072-48CC-B053-6A957CB7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FD33-2C71-4A3A-BF28-DDC6FA9E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EAF90-D7D2-4B09-B810-6DB97D05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373F7-F747-4839-8377-5ED2634A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DE151-504B-48D2-A81E-212760E0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375A0-8DF8-4792-87C3-1561EF58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9D047-E8A8-487E-A53F-2CAA1EEE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C3ECC-78C5-4F7D-B192-D4192CE9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43C58-E309-499B-AEBB-60C68CF7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811C2-A556-4426-8758-577658CC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1102E-18AE-411C-8CEE-262F822C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3DFE4-F9E2-46EF-9CA1-20BC3400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862C-EEEC-4741-9998-82ABC41C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E45AD-45A8-4906-9680-1CB061B3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14BEB-3E18-4881-BAD9-40C8B5F8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2F50F-3885-46A4-8C63-0460C66E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E9DB3-EDE2-40E3-9D6E-F95CE477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96A47-5259-439F-B1A6-3189245F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B1987-0928-41A1-B686-45BD0007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5B81C-197F-4C93-A3AB-F852BB9B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AE277-DF36-47B7-B593-382463FB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1AFC6-FA0A-412B-9635-DD6BAD92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8E2A7-45ED-4D1A-89C3-3B6218206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922F-8583-43F0-BBFB-782E0956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9A6A8-CA92-40CA-83B0-8290AB4D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970F5-F833-402D-AE61-A9B3E65C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1C859-01B3-435E-8A06-5834F4B4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4EA95-63C4-4E49-9CCE-E9D7F5ED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3F908-783F-467F-A268-F539E3CE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34185-83BA-4CA1-BEBA-72988253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355FB-AB12-4C0F-BB3F-2929AEC4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A23A5-BD7C-4572-8614-ED6FB133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AD9DF-93BA-4C52-A84C-1E1A9DF1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7C827-A7CB-49DF-8157-1B488D48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8645-D525-4ECC-8126-0423F30C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4DF8D-025B-4322-BA89-D496035C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0B903-1A7F-49D9-930B-C7A5CF4C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D17E5-4893-4990-B447-A4806C08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45A4-13A1-4EA4-A958-5303E08F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E6CA-5B0D-4F59-9D73-900C1926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7763-FFE4-42E3-B7FE-129F42BB2425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16B1-8A0E-42EC-80C3-1951D349FC05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A7F3-E6C7-46DF-8AEC-07156DAF4DD6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ACDF-4BDE-4E0E-9903-DCAF456B54E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E3DF-F521-4D8B-947E-07C18B5E77E3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18B2-430E-4E70-942C-9053A5BCE6CD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Oval 7"/>
          <p:cNvGrpSpPr/>
          <p:nvPr/>
        </p:nvGrpSpPr>
        <p:grpSpPr>
          <a:xfrm>
            <a:off x="4224240" y="6035760"/>
            <a:ext cx="901800" cy="766800"/>
            <a:chOff x="4224240" y="6035760"/>
            <a:chExt cx="901800" cy="766800"/>
          </a:xfrm>
        </p:grpSpPr>
        <p:pic>
          <p:nvPicPr>
            <p:cNvPr id="137" name="Oval 7" descr=""/>
            <p:cNvPicPr/>
            <p:nvPr/>
          </p:nvPicPr>
          <p:blipFill>
            <a:blip r:embed="rId3"/>
            <a:stretch/>
          </p:blipFill>
          <p:spPr>
            <a:xfrm>
              <a:off x="4224240" y="6035760"/>
              <a:ext cx="9018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00640" y="6165720"/>
              <a:ext cx="557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6DCC-73DA-4180-AEF4-FE78048F120A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453C-AB17-4FA2-A597-F6632EFD90A5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381B-ABD2-4C07-A87F-9D4646120FB3}" type="datetime">
              <a:rPr b="0" lang="en-US" sz="1000" spc="-1" strike="noStrike">
                <a:solidFill>
                  <a:srgbClr val="f4e7ed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216C-5E60-4CC9-A6AF-A7396F5616DB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D49B-1150-4428-9018-A4FEF0B6D642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0587-C720-4B2A-8175-F41523A8E075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622440" y="1231920"/>
            <a:ext cx="84852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58C1-D7B9-4A97-A2A3-12FCF5A08B3B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4"/>
          <p:cNvGraphicFramePr/>
          <p:nvPr/>
        </p:nvGraphicFramePr>
        <p:xfrm>
          <a:off x="1905120" y="304920"/>
          <a:ext cx="49449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04920"/>
                    <a:ext cx="49449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4809-34E0-4FE5-B1AC-BCC09561179E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1940040" y="380880"/>
          <a:ext cx="4868640" cy="63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0040" y="380880"/>
                    <a:ext cx="4868640" cy="63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7302-3603-4151-9DF8-DB8F348EEFDD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3"/>
          <p:cNvGraphicFramePr/>
          <p:nvPr/>
        </p:nvGraphicFramePr>
        <p:xfrm>
          <a:off x="2048040" y="380880"/>
          <a:ext cx="4505040" cy="627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040" y="380880"/>
                    <a:ext cx="4505040" cy="627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7:41:01Z</dcterms:created>
  <dc:creator>Apadana</dc:creator>
  <dc:description/>
  <dc:language>en-US</dc:language>
  <cp:lastModifiedBy>MRT</cp:lastModifiedBy>
  <dcterms:modified xsi:type="dcterms:W3CDTF">2020-04-06T07:52:05Z</dcterms:modified>
  <cp:revision>267</cp:revision>
  <dc:subject/>
  <dc:title>PowerPoint Presentation</dc:title>
</cp:coreProperties>
</file>