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5D3C-A580-40B9-B1BD-22FFF89E9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56B6-7582-428A-8914-F878603B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5140-C49D-4D46-B9E7-BC109E68B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F4DB-1429-40EC-9C5F-4F87E4DC5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16D8-9B47-4213-BE43-0FF0F34C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9E31-EB9A-422D-84B6-0295D59C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4DA5-9744-47A4-B7EF-67CB5136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36FA-FAD2-470C-ACFA-55FC627A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BBA4-B5E7-4E64-A12F-B859D931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8516-91F4-45AE-9048-8FD2A45E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2040-8C6E-4458-90DE-A6077A27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6A88-875E-44A6-8BDC-1CEA9849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99EF-1414-4303-B083-67A0A55D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10D5-90AC-4D68-B507-39616BD3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C1BC-1B99-44AD-901C-7E6DD145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B510-4153-4AC3-BA4B-6ACDAB13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6F42-AE2D-4F45-8E94-6048A358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1F2CC-CF2B-4E4F-8699-6495C39BF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AA442-9F37-435A-93D0-E91F1119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98EED-F4E0-4813-8194-81E62541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54D91-B0DF-4DEB-BC7B-50E7CD10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23C7B-3762-4EC6-8F8A-DFA73844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842D-D3C7-4F5A-B004-1F96CFE6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AFA4D-8FD8-4540-B71E-F81371E3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692EF-2A3C-47D5-BAE9-A5559C60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9BEFE-BBB8-4E4F-95B8-C5100CEE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272D8-5864-47DD-882F-0EC916A2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405B3-1DCF-48DF-B3EC-EEA3373D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930E3-6574-4BF2-B679-B10A9D26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47677-4B11-4263-ADC1-D4997D37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F823D-5B97-4D03-AEB9-EF1451892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6D791-1130-417C-8FED-8FA5D708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BD89F-B68E-4F41-BB3B-70FA8865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40B5-FAD6-4555-A3B6-6A715EA1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AD777-B5D8-4949-9F8D-DE150603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26227-C743-418E-9075-3C82486D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31E21-B361-418A-A72E-5CBAC13E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EC774-84ED-4C62-9888-D71BF4B5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A2354-D6F1-4A68-B1AD-663CF934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81ABE-C70B-4EE2-A5A9-33D8D620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63C37-1CDC-44FD-A1C6-DCC57C7A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A3D8C-6BB5-4D6F-AAB8-281A234F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02C2B-C912-4349-B154-79F1ACD8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4BE32-5E66-4BC8-98A3-6847CA73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E2B7-0307-469E-93ED-4DF10A2D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49FD5-2206-424D-9A2C-EFB6ECA4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DF7A0-99E9-4435-895A-79694057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D8A68-4DF1-4569-A6C5-3A90EA2F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CC847-A161-462E-9FE5-14E71490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6B150-AA70-43A4-AD68-78DABF6F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4F150-897D-43D8-BD19-8DBF19DC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A049F-C5CC-4DBC-9A54-04BE32EC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DCA91-ACD1-43F5-A181-8F398DD5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1D5D8-D2C2-4D6A-AB06-EFE0A4DB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52D01-1034-491F-A089-DE2516459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9660-33C3-43AA-932D-B47EFFA9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AF477-7250-4868-B5A1-59C743C83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4271C-D369-4E6E-BA6D-CB807E79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76104-DD33-4238-8633-4999977E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1DB66-D607-48B1-91EE-950EEA3D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907F9-B49D-4DC2-807B-640E2AB5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753B7-466F-4852-943B-E597BD1D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C18A0-193A-4EAD-A44C-1FF8C42A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D3082-A9F1-4CEA-AB1C-A92522E5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8E957-9E25-47B9-9597-821EA8BC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DD33B-C535-4576-9B65-87E3B5FD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EA73-26F2-4C8F-813C-A81F43C2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3CD4C-D717-4C4C-8CE7-D49FF474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0E93D-5880-4062-9DB8-022B8389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B75D3-0067-43D0-AC6B-54773CC93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3F50-FD94-42BD-97D0-DE1C63CA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9895-DA45-40DD-8493-07A24D81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B561-65CB-480A-AC8B-40A0BA6A6AFC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7F16-1E58-4394-9007-3E0B3B3FEF24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0D80-A894-465A-ADBC-62F93E89DE5E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1EBA-D5AD-4EA4-AA4E-F21E0EB75690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F902-18D3-4D49-83C3-C5C6FE09A704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DDF5-9778-41DA-BE0E-BB024EB6D52E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Oval 7"/>
          <p:cNvGrpSpPr/>
          <p:nvPr/>
        </p:nvGrpSpPr>
        <p:grpSpPr>
          <a:xfrm>
            <a:off x="4224240" y="6035760"/>
            <a:ext cx="901800" cy="766800"/>
            <a:chOff x="4224240" y="6035760"/>
            <a:chExt cx="901800" cy="766800"/>
          </a:xfrm>
        </p:grpSpPr>
        <p:pic>
          <p:nvPicPr>
            <p:cNvPr id="137" name="Oval 7" descr=""/>
            <p:cNvPicPr/>
            <p:nvPr/>
          </p:nvPicPr>
          <p:blipFill>
            <a:blip r:embed="rId3"/>
            <a:stretch/>
          </p:blipFill>
          <p:spPr>
            <a:xfrm>
              <a:off x="4224240" y="6035760"/>
              <a:ext cx="9018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00640" y="6165720"/>
              <a:ext cx="557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27F8-EC66-4F01-89B7-DB1DB7362C54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7CC4-C579-407C-B25C-353DA6199D4A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9183-3837-48C6-BD71-EA3A73A6742C}" type="datetime">
              <a:rPr b="0" lang="en-US" sz="1000" spc="-1" strike="noStrike">
                <a:solidFill>
                  <a:srgbClr val="f4e7ed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C7E9-47AF-4EC9-B20C-5E73DA4D7E1A}" type="slidenum">
              <a:rPr b="0" lang="en-US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7CD3-1755-4201-8E9F-B5AE23C1114B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B5BE-971B-4F3F-94F7-28D6F595EB52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622440" y="1231920"/>
            <a:ext cx="84852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E153-682D-4B0E-A5AA-F86834AFBA41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4"/>
          <p:cNvGraphicFramePr/>
          <p:nvPr/>
        </p:nvGraphicFramePr>
        <p:xfrm>
          <a:off x="1905120" y="304920"/>
          <a:ext cx="494496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04920"/>
                    <a:ext cx="49449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CD3E-4442-4D5E-92F2-6402BB6CE75B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4"/>
          <p:cNvGraphicFramePr/>
          <p:nvPr/>
        </p:nvGraphicFramePr>
        <p:xfrm>
          <a:off x="1940040" y="380880"/>
          <a:ext cx="4868640" cy="630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0040" y="380880"/>
                    <a:ext cx="4868640" cy="630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1B50-D1A2-415F-9706-427191E0255B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3"/>
          <p:cNvGraphicFramePr/>
          <p:nvPr/>
        </p:nvGraphicFramePr>
        <p:xfrm>
          <a:off x="2048040" y="380880"/>
          <a:ext cx="4505040" cy="627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040" y="380880"/>
                    <a:ext cx="4505040" cy="627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7:41:01Z</dcterms:created>
  <dc:creator>Apadana</dc:creator>
  <dc:description/>
  <dc:language>en-US</dc:language>
  <cp:lastModifiedBy>MRT</cp:lastModifiedBy>
  <dcterms:modified xsi:type="dcterms:W3CDTF">2020-04-06T07:52:05Z</dcterms:modified>
  <cp:revision>267</cp:revision>
  <dc:subject/>
  <dc:title>PowerPoint Presentation</dc:title>
</cp:coreProperties>
</file>