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8615-2A1F-416F-846A-CC4C9904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F734-576C-47C0-BA30-0A8EAD67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98D0-0BB6-44EF-88AD-8FCE5C1A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5C30-9534-4EC8-A5DA-0F69F3CD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D675-6447-4DC5-B1BE-9F70060D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BCCA-5FD7-4C7A-A9F1-C081D1ED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F44E-A956-4C96-B097-E10B009D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A6C4-A1DA-49F9-AE80-A9F9C8D6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6CC7-63C0-4F4A-AED5-E422EA5A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7085-A8B5-4265-850C-D4F1D2CD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29DF-CD57-40C9-AFE2-FD462321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309E-E93B-4D71-9994-C901819C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77CA-A99C-49AE-BADA-B692F045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344A-640E-444A-A9B8-F34BA93F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EFD1-51E2-4AC4-911A-7412BF34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B066-1DC7-40B9-9249-0647FD35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7025-1BD6-4CF1-9C50-4BB763F0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CFB42-DD94-40C9-8013-34B47E47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89691-A057-4D56-96F3-14EE1C8F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84799-0741-4D16-B500-E055A32E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2F009-5520-4126-90A7-908683D9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F3476-8820-4A79-B0D8-8977D2C1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542B-7C46-42A0-963F-228DCE8D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F994A-CB31-4EDA-ADD4-F28549C5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2FF16-CF5E-4957-8AB8-2E3E1B55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70D5C-6ED6-410B-9B9A-F9E1D601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C1B9B-9D43-4F8B-9D67-6403FC8A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3FDEF-59FE-4657-9C27-77A32825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C2268-FB12-4330-B52F-C0508228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25A4D-00F9-4732-8272-0C68D007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B09AE-FD9A-47A6-BD59-77A75225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3EB8A-35C8-41B0-A500-7516BFC8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F49BC-5AEE-44DF-9DBE-8FD38D51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948D-A4FB-4551-A7D7-32B95A10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B0B6E-5A03-4F7F-B0E7-5FE97CD7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8793E-F0BE-4274-9FE8-F770FFC3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DBA06-286F-4FEC-9C6D-00183F5D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50A26-E90C-4789-8415-358DE585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7CB95-AC81-4561-B972-01DF91DF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D2D98-B220-403D-81BB-7880F0C8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63A82-4B5C-41EC-8A44-7CE03BBC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ACDFD-BA67-4FDC-8DAA-3EFB4637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0B067-08E5-48EC-B21F-EA28E5A6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E1F4E-BF15-4B1B-9E81-EA132EA5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AA32-F45F-484F-9CC1-A3DF96A0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F14B7-CDFB-4620-BB35-58DB0734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08B9C-B23B-42A3-814C-CA8C2865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2A05F-22CF-4F02-A050-49337215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E9414-FE43-4B7A-B38B-C2E5814D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6DC4D-EAEA-41A7-A222-733D4B62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6B6AD-6064-4CAE-AF59-E2A7833C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51CFF-F6E8-456A-AD7A-9176D13E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C6487-63A7-4CCD-8D36-2119BB54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E42E6-AA75-4439-B7A0-C24E12C8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4077B-6986-4C17-8C70-5F4A808B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1E77-16BA-4C30-B3BF-B9799A71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0F516-4379-483C-B46D-38CDC8D7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124E0-2149-45CD-B9CA-08D9CB85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E2AF8-B6A9-4574-B287-A2627F5A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27B60-7CA8-4680-9653-DA85A488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CB628-35BA-4BCB-8F7F-64FBAA89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31134-8F3D-43C2-A316-DB8497E8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88A19-16B0-4AFD-B4FF-1E905A59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636EE-A14E-4BB8-AA00-6259471F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F64B2-746E-474E-8DAC-6572F607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12939-8999-4973-82A0-6748D567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1746-A789-4083-A32F-F346E138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6EFE5-0BFF-4A6D-80A6-35A21BAC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104F5-104E-432E-ABE5-7D89B21F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8D2AB-1614-433D-9D0F-E4DB3E1A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7DBE-6C9C-4F71-B1B8-5A6524BE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17CF-ED62-4D9F-A455-B95B7583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0FD1-943B-4692-87F2-380CB254ACD5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C145-AD11-490A-BE0E-D7F36F67A754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3591-CC53-4EA1-A6A6-8E9EC7F9D2AE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82E8-A72A-4A13-851A-FBA0BD586C9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F0E6-F13D-4477-A882-B973723B2A42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BE6B-6809-421D-B303-20AED1D5EE9B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Oval 7"/>
          <p:cNvGrpSpPr/>
          <p:nvPr/>
        </p:nvGrpSpPr>
        <p:grpSpPr>
          <a:xfrm>
            <a:off x="4224240" y="6035760"/>
            <a:ext cx="901800" cy="766800"/>
            <a:chOff x="4224240" y="6035760"/>
            <a:chExt cx="901800" cy="766800"/>
          </a:xfrm>
        </p:grpSpPr>
        <p:pic>
          <p:nvPicPr>
            <p:cNvPr id="137" name="Oval 7" descr=""/>
            <p:cNvPicPr/>
            <p:nvPr/>
          </p:nvPicPr>
          <p:blipFill>
            <a:blip r:embed="rId3"/>
            <a:stretch/>
          </p:blipFill>
          <p:spPr>
            <a:xfrm>
              <a:off x="4224240" y="6035760"/>
              <a:ext cx="9018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00640" y="6165720"/>
              <a:ext cx="557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7E54-0ADC-46C5-8A0C-BA5E2C43DD12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42D5-26D7-4182-9281-C693B5371C3F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AE75-EF40-4A2E-A3C7-06D8A6AC557F}" type="datetime">
              <a:rPr b="0" lang="en-US" sz="1000" spc="-1" strike="noStrike">
                <a:solidFill>
                  <a:srgbClr val="f4e7ed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CBE0-59A1-4C28-9281-D019849BFC69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0DBE-0131-4685-99E2-7ADB208987CA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F97C-E178-4F40-87DB-B5E278D238F9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622440" y="1231920"/>
            <a:ext cx="84852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CC28-B4C4-4A48-BDF1-3C421E7FF0CE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4"/>
          <p:cNvGraphicFramePr/>
          <p:nvPr/>
        </p:nvGraphicFramePr>
        <p:xfrm>
          <a:off x="1905120" y="304920"/>
          <a:ext cx="49449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04920"/>
                    <a:ext cx="49449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A247-FFEC-4FD7-867B-E2B7C4821936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1940040" y="380880"/>
          <a:ext cx="4868640" cy="63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0040" y="380880"/>
                    <a:ext cx="4868640" cy="63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03B6-5EE2-4716-BB26-22D7A4C1431D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3"/>
          <p:cNvGraphicFramePr/>
          <p:nvPr/>
        </p:nvGraphicFramePr>
        <p:xfrm>
          <a:off x="2048040" y="380880"/>
          <a:ext cx="4505040" cy="627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040" y="380880"/>
                    <a:ext cx="4505040" cy="627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7:41:01Z</dcterms:created>
  <dc:creator>Apadana</dc:creator>
  <dc:description/>
  <dc:language>en-US</dc:language>
  <cp:lastModifiedBy>MRT</cp:lastModifiedBy>
  <dcterms:modified xsi:type="dcterms:W3CDTF">2020-04-06T07:52:05Z</dcterms:modified>
  <cp:revision>267</cp:revision>
  <dc:subject/>
  <dc:title>PowerPoint Presentation</dc:title>
</cp:coreProperties>
</file>