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B5C-9F20-4873-8136-5DAA7900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A05-126C-4AF8-BA5C-059C8910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F2A-426B-424E-9B39-0D21045A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17B-A029-4623-98C0-6AE88BC9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E8D2-F1AB-49A0-BEF1-2422A7EE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BAB5-AC52-490C-B7EE-026571C4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2C4B-6BE3-44F7-B21B-40DE3288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07A1-E17C-4BF1-B862-33E78EC6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B7ED-FFC9-4F68-9CEE-593F0602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0912-0891-43D1-B514-8F50C16B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853B-1CE4-4571-8995-02D4843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1E6-E49D-4A4F-BC85-0C69935E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4548-6CE1-41EA-B1FA-A861A22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274A-C712-44E2-8755-D6993B3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5E9A-DBC9-4043-872D-581F8179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86EB-E59D-4375-B893-4FC71487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6C7A-10C7-4EC6-A94F-08A919A3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64A6-0103-4BF5-9F6A-B3C1D01D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565D-411E-4F61-AFB1-3155DE99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F676-00AD-41CE-AE41-BD0CCD08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2DDF-B325-4F52-B4D0-BBA353E8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A853-80ED-4BBC-A2C2-FDF5D118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99C-5F97-497B-9D1F-A52A91AA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29F7-0AFA-490E-87C0-B4874987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094D-4695-48BB-AE81-F1D663F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2C32-C10B-4248-9F9E-04C15974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99A1-89A5-42D4-B5E7-9E0DEE82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F33B-69E2-406A-9986-E36D409E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2EDE-D4B8-4A3D-8A9E-D8716A0D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5856-D66B-4073-95B1-9F28CCA9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EE767-DDCC-44C3-BBFA-99EBA038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DF76-16A2-411B-B260-1A4530BA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CBF3B-9350-4364-B8D4-14606E32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9B9-5AA1-4CAA-AA8A-60881AF0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6AF1-3D8C-4EF8-AAC6-61C539F6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2971-8596-4C7B-983D-9318A9A1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E055-424D-40D4-9CEC-F29984D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ACC8-44CA-49AE-AA59-80DFEDDA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1A64-6F84-4EE9-B66C-8BDAB2C4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D260-D553-4A78-8697-C15CCEB2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8436-6246-41CE-A754-9DFF7D9A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B1CA6-AA24-4966-825F-18A57326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0EBF-0C27-4F5C-9513-3E9ED761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7A81-4154-4A44-97F9-797FC3BE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BEA-CCA5-4267-B85F-94E003FD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B3F5-E814-4015-9EFD-25861E6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41D7B-ACE5-41C0-8E8E-5EA2F047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F3923-77B7-42A6-8168-79660E5B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9962-81E8-444A-A772-473773D5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BB87A-CAA5-43D6-96B6-0E6DD95D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0F77D-FBF4-4DD8-9D70-C04290C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6016-D400-4653-BB63-34716B4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ADA34-BB44-434E-A445-FD6A02C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F537-2E01-4595-A243-4C3754A3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2A403-BBBD-4963-9ED3-F10D6648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06A-5041-452E-9E5A-E1EE2187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DDC6-9003-43FF-BE2F-14C78B37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6421-FA09-4CDC-9936-B3838915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EA3BD-DCE9-4366-ACE8-F9BCC37B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7A1D-531E-4312-964E-1645907C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4CCE-E81B-4D64-963E-A4BC93E5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4FD65-384A-469E-80FF-EA34F59C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ADE0-E271-4592-BCBE-EE2B0C4E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70768-EF9F-4248-B96A-15102A78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654A-44FF-42B0-A035-77F9109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66BDC-0D72-4B3E-9460-E9539CD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32D-AA2B-4B52-B4F0-EB64990E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9394-64CC-4A42-883A-70977B8C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702CD-0E6D-43A5-A5A1-3DB04BFA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73F8D-7F8B-45B9-AAA6-3CF98EDB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E28-877A-4ABC-9EE0-C969070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3AD-F258-49B1-A6A6-6FF963B3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C48C-AAAF-4A77-98E9-1F85AD89FCB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ADB2-2C1E-4274-B355-1808E28D910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6A0C-324C-4213-9139-2DEB07C12D0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B142-9EA4-4849-A94F-33F9CD7C81C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D76E-B97C-4A88-9B98-BE307C1DC01C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0D77-24D9-49F1-977F-9903E6DF871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D500-A126-417A-8B44-008CFA82B9A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3A33-D4DF-47BD-BF40-DA343D0625E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8B14-0F1A-4B2A-A59E-879268F62856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125C-D3BD-4128-ADC6-AB6E7ADC6154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4ED5-4972-4FE3-8086-AB90E2024208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6C44-58F7-4E03-A698-559011A456D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Users\hory\Desktop\IMG_0002.jpg"/>
          <p:cNvPicPr/>
          <p:nvPr/>
        </p:nvPicPr>
        <p:blipFill>
          <a:blip r:embed="rId1"/>
          <a:stretch/>
        </p:blipFill>
        <p:spPr>
          <a:xfrm>
            <a:off x="2133720" y="228600"/>
            <a:ext cx="42796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7BE6-4C5B-4C93-BD3C-8998483DE8E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2133720" y="762120"/>
          <a:ext cx="450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50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7634-64F3-4D65-8A4E-34CA92194FF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41560" y="609480"/>
          <a:ext cx="4740120" cy="61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609480"/>
                    <a:ext cx="4740120" cy="61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4431-A6D8-491C-8F73-3F400F51B09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057400" y="762120"/>
          <a:ext cx="457200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57200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8:48:30Z</dcterms:modified>
  <cp:revision>262</cp:revision>
  <dc:subject/>
  <dc:title>PowerPoint Presentation</dc:title>
</cp:coreProperties>
</file>