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021-5658-4494-90A3-BAFD59C2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ED7-BC64-4830-8663-5B62C99B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1CF-2618-46F7-95BC-F15DF5FE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406-7F57-42DA-8440-9FEF622B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A53B-5D43-41CC-9B23-714DD5D5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CB1D-771A-45CC-9107-6DF500CB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F96B-66B0-4A29-A841-D858A756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D6EC-DE4F-46B1-B525-28AB607D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A143-9CCB-462A-85F4-1E8BA30C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EECF-96CF-442B-9E17-27823B14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3CA4-C2D1-4DCA-A73B-FD573EE1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BA1-647A-4FD8-906D-380B2DD4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95D6-EFFC-401C-906B-8405E594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9009-E94E-48EE-943D-75F324A5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7EC0-8740-4391-BF6D-A2A6CCA5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F87A-AC05-4AAC-B55C-E1B5EC3D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AA5B-77E2-41AB-B8D7-23DC5225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F3D1B-00CB-409E-86D8-2BB73DE7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E4A8C-51F1-4839-9FDD-DDDB76AD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8455-5F8F-49A9-9B87-D8C672D2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0B2B-E719-45A6-AA90-E35BFD0E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B0814-D0BA-4162-BFF9-82D06487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42B-ABE3-4BA2-A089-6BF462D5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15BFF-A67C-416C-A036-DEA0A1EE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715F-F3F4-4DFF-9C60-0436280C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98A9-D6A3-4FC0-9B1E-8EAB9EAF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7D537-C403-409B-B760-6083E114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97DFC-1459-4077-B6A6-E1E82C2F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B1E2-7250-41D7-805F-043DE1AB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7DF3-136A-46A4-BC52-EB23AEA2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5F486-40AA-46F4-B933-CC1F5A37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E71C-F1FA-40FB-9079-B7EE81FA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B64E2-6781-4B38-A6A9-46177B83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EEC-53B1-4336-8C09-D662CCF6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EC0EE-02F9-4866-A89C-DBD05D4F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86DD2-3727-4B82-9C06-C7DB90BC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7B55B-A563-4E9F-92B0-97809F66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90328-35D8-444A-B35F-953B3A8C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B00CD-2AFA-42C2-BE56-FB0D53E9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EE1E-F55E-43AD-A3CE-9C4DD285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79567-0FF8-4BED-8080-63EBDE32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D088-7F6D-456B-86DA-E1256FD5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39D52-A143-43B3-9CBF-C5CEE491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3177B-CA5F-4232-AF7D-24C85BB2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E68-89EF-4D35-9F42-6D51851B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060D2-13AD-4E5A-81A1-2634DA9E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13A0D-8B5D-4151-8B03-3146FC4F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95598-9149-475A-A816-C5F1AF9E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DC98A-A62D-48A9-A725-6502F9EA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327B-E090-4A36-AE85-70E8A3EB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341FC-9143-408F-A596-E570A641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6A46F-A5E3-4103-99CA-519939B0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8A64A-EB4B-4355-B4E7-D993CFC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447EF-5B76-4A5A-948D-EF8A1867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67224-08DF-46D9-80EC-122BFC70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768-5727-4489-862F-3A30E9CA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D36A5-31FA-4523-8792-6C112AFC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21566-197C-4C01-8B16-2E5EE9DB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91BC5-5539-4326-B557-6C592414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0393B-D101-4B5A-9BA1-50E66392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7A213-8ECF-4705-BCCA-C808C163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F45BE-2DC2-47D9-90F4-03646A0F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8C299-3193-446B-90F3-A9D660D2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450E5-4D90-43FE-9CC6-9D8363B1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DCB18-B741-4787-BECD-0372582B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E6233-C440-4B07-948B-9EA9D1B3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C26-AB3D-466B-8C4B-C22646F3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3F661-98DB-434C-B984-572D3949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CADBA-1E24-4165-B57C-BB66D082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0E993-0BD0-48A0-A639-D1B7796E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ECB-03C7-403D-8D2F-8F021AB2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2FB-A849-48C9-8C73-51EDC119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DD89-2334-4043-B39A-61229779EAD4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7AE7-0087-45D7-B441-6BB9C5283B4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D25B-D79A-46A0-83E6-D90379B59AF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E004-3816-4602-BC6F-89382F59744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18F5-5248-4E74-B9EB-1407EEE0F77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6F29-A607-4AF4-9F3E-E71F3720C0D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5BF3-3BF3-48BA-954F-EF82AF0816F2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1D29-9925-4E24-A285-B28687A97CD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A6C5-E012-4246-8D8E-7EDB553883EA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4602-9FA6-4CAB-A925-F74442162CB2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5ED8-E77E-4692-AB87-77C728D93DA1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DFC9-5E1F-45F8-A858-F1AAD3609E4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C:\Users\hory\Desktop\IMG_0002.jpg"/>
          <p:cNvPicPr/>
          <p:nvPr/>
        </p:nvPicPr>
        <p:blipFill>
          <a:blip r:embed="rId1"/>
          <a:stretch/>
        </p:blipFill>
        <p:spPr>
          <a:xfrm>
            <a:off x="2133720" y="228600"/>
            <a:ext cx="4279680" cy="64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F81D-A3C1-4F2B-B87F-E88F40E232E1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2"/>
          <p:cNvGraphicFramePr/>
          <p:nvPr/>
        </p:nvGraphicFramePr>
        <p:xfrm>
          <a:off x="2133720" y="762120"/>
          <a:ext cx="45050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2120"/>
                    <a:ext cx="450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EA91-4708-4B72-9862-D87C34284FE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41560" y="609480"/>
          <a:ext cx="4740120" cy="613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609480"/>
                    <a:ext cx="4740120" cy="61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142A-09C7-48F9-BB10-B582551ABA58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2057400" y="762120"/>
          <a:ext cx="4572000" cy="59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762120"/>
                    <a:ext cx="457200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8:48:30Z</dcterms:modified>
  <cp:revision>262</cp:revision>
  <dc:subject/>
  <dc:title>PowerPoint Presentation</dc:title>
</cp:coreProperties>
</file>