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C90-3B7A-42E7-B1C7-856C8568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B20-BA57-4BA4-AB34-A27A21AA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76C-D3BB-4C37-BE4A-E07466BE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54C-8531-4D46-8AC7-43670674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9D44-8F12-4DBD-BBF9-1F9D2858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CF9C-F203-4D7D-A0D4-903AF684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FF72-3FEB-41C9-B29D-3939DFCD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61AC-0B70-4FA2-A85D-AF1E51A8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BC6B-C118-4B74-8CE6-8767A068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EC6E-DF6D-4B1E-8CC1-5C9BA982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A6ED-E06C-426D-BDAF-C91B0269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F4C-530C-4AAC-B963-2426F91E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BFDC-0741-461A-930C-765E12E0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640-FC5A-4CB9-8172-8DD8F35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26AE-EB9E-4289-9660-60B5AA39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71DB-366A-4F9D-9176-889F8C29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709B-D9EA-4350-B1B4-658DA66F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CF88-DF6C-43B8-9567-DB0CB1F5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63D2-A10F-4CD5-95D5-EBCD1E7A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EE6F-F458-4966-919E-205D4B9D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35E4-B19A-4B91-99A6-DC4F07A2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18059-CE7F-4AA1-B681-E22C2524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17A-9FC5-4613-B2B6-9E5C92EF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26A0-B748-4AF4-8525-505A3A6B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56E6-CF98-4074-9C7B-046410FE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BA8C-4D17-44D4-B806-5F8335A8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528C-9BA0-4040-B193-19B66068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969A-7012-439B-A314-76C35CA2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49B3-17ED-4A65-8639-E4300105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68BB-29DE-4546-B983-6300383C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688C-8BB5-4558-99AC-34F29C96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E9CB4-22A0-484E-87D2-F952C89E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5882-5642-476B-8FF2-FD4A9104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BBB-1362-4CB5-87B4-90AA1AED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F47F-FB5F-4A93-8423-6ACC6F40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3910-24E6-4B45-B7D2-F03121D2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DC7B-05EF-46B0-81C9-67EA92CA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C04CE-530D-4C82-B8F5-4ACE4B51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9B9F-FD9E-4293-982D-E72F292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52F6-DB36-43C9-B8B7-5E380D1E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1B36-3494-4165-9A99-9317EDC7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1CDAD-85A2-4F67-ABED-83AAF21E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F3B6B-40C7-462B-B606-AF771F48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363E-AB31-4296-9160-82D3FAC0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DD2-055F-4C05-A9F5-E672475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F1216-9D0F-4B43-B01E-3327D9CF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769A-D7C9-48A4-AF20-B55E02A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8ADA6-2785-4F66-81BF-180A098D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2D049-EDAE-4458-80D4-D3652C8A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A2D9-AC4E-4552-B6BA-CAD93E36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3C67F-83A7-4682-ACAC-190EA90E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7F3F-22D2-4AC7-A3A8-0FB346D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CED3A-0ABB-473B-9DFC-6382E08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7209D-0175-4D14-B7DE-E26E6ADD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ECDA5-44BB-41EF-A77F-5BC6D5BA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03A-BAD1-407C-87ED-16C87692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3570-F0A1-42A2-A1E0-AF1A9433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686F3-4D77-48C6-916A-2C2DAC98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C3188-84AB-43D9-A357-D08B6ECB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080FA-2391-4F5A-B30C-BBCD3C1E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60F7-B412-4BDE-9AF4-0E7EF615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2055D-9E43-412E-9A6F-8B87D5AD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64F7-DD34-4146-B424-1263C7EF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A0F8-8699-491F-AE9A-335D4E4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DC46F-3D35-4BC9-9C8E-4AB13D82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6DC63-0F29-4882-B864-BF41FC41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9F2-7816-4FC4-BA81-D44F8463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E4A74-219D-452F-A4E3-F801CF14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5C531-29F8-4C79-96E7-DD2B7B85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1075-D19E-4A80-876A-A4980435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B0B-EE73-47C8-A0D7-C54E40C5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F92-6E99-4F1E-9B52-C01005B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122A-C3BF-43D9-A856-E405A150C86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A204-89D6-4AD1-82BA-7C94A8CECE0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6B2F-B6A5-49A7-B3E6-DE290A57B6A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C0C-C581-4705-BB44-9D35D81939F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CB5D-459A-4344-BFAA-44FB1705593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8FBF-1ADD-4716-8768-0A5C82ADCCA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2DB-32F1-465C-A093-FD80396DB673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1BA-0F24-46F8-9E63-89434EC95CD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7AFB-F2BF-499A-BE03-2D556752063C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1EA8-69D4-4195-B567-8A10D22D6A8F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7997-D4A2-4A24-AE2D-F88CBA774CFE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B991-A84F-47B3-9F5B-427425ECECD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Users\hory\Desktop\IMG_0002.jpg"/>
          <p:cNvPicPr/>
          <p:nvPr/>
        </p:nvPicPr>
        <p:blipFill>
          <a:blip r:embed="rId1"/>
          <a:stretch/>
        </p:blipFill>
        <p:spPr>
          <a:xfrm>
            <a:off x="2133720" y="228600"/>
            <a:ext cx="42796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AFDD-40CA-4808-86C7-454D0708F0E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2133720" y="762120"/>
          <a:ext cx="450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50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6D44-4DAC-49F1-B56D-7D1E07F5824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41560" y="609480"/>
          <a:ext cx="4740120" cy="61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609480"/>
                    <a:ext cx="4740120" cy="61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2E2E-317A-493B-96AC-85E5C7900E5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057400" y="762120"/>
          <a:ext cx="457200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57200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8:48:30Z</dcterms:modified>
  <cp:revision>262</cp:revision>
  <dc:subject/>
  <dc:title>PowerPoint Presentation</dc:title>
</cp:coreProperties>
</file>