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FAB-509E-42CB-8A61-42B5A455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3BC-F05F-4B34-A583-DAD4BA8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E8C-115D-4F6E-97E7-3CE15DF1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A22-66F9-48CC-A085-740B4DA2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6B37-B4C0-4888-B19A-BC738333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47FF-CBA7-4316-847F-D407921F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973B-8D0C-459A-BF57-C56111C1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C681-B83C-483B-BB75-2633A765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808F-FF64-45C9-8656-462D2DE7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9B4F-9E37-4B08-93BD-9A198043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276E-068F-4883-9D36-393755B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1B2A-225A-4C8F-B3C6-9B9767A3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3A34-AB21-4E53-923C-777BD13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F67E-8504-4135-9CBB-FCB372C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A13B-D72F-4BAE-A161-F551A30D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290D-5432-4BA5-904E-B65087CF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D536-F8FA-4E36-BFA4-BD4FACB6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24DB-B375-4890-BD23-C33CC2FA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F621A-369D-448C-B638-A7228EF9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7C58-E2C5-4ADB-B451-872576D7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323E-50A8-410B-96A3-B9FA80E6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1589F-62E7-4053-9563-0D4BCAF0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F6C-6CBF-482A-87A7-ADAEDD49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CB66-17CE-4383-8665-AA40E163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CEB9-3B99-4EA4-9354-5E620BB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1609-D6EE-462E-BC04-BD11C06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10EF-8898-41DD-B1C3-F453C2C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9A90-352A-4BB7-BA01-2CCBDEDF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07CB-819F-426B-92DC-9BC53A13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62B40-A63A-4434-BB04-9D8465A1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0D636-205D-4562-BA1A-E5D9FB08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478FA-3383-489F-B017-5DBBA36A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3AF73-06B5-4D5D-9BA6-FD5DD0C7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63D-DC37-4B47-AD66-58376B49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7B27D-3C71-43E7-8AF8-48EE3DC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CA87-310A-4E4E-9C88-38E6BDAB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B1D63-3767-4CD1-9ED9-F817FABD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025F3-7192-4569-9D09-DED39F94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F8372-CB31-4857-81C3-6526DED6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72BD5-F2A8-4691-B8CE-8A93468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87ADA-928F-4DA9-94E5-D8DE151B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DA4B-188A-4CC5-AD29-DACA1B0B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10F18-F3B3-4FCC-B2CA-69086433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9019-1CAA-40F8-AF75-6774E2E9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FE6-5901-4A86-9401-C094CF0D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C871D-CABF-4CE4-BDF0-5C3C45ED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65F9A-9C75-4D5A-99DF-1A3BDC93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527D5-2A3B-4BE3-98FD-98517043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6A1DD-841A-495B-AC97-A8873031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E90A-52CC-439B-A58A-F6482403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11098-D6FC-4CE8-94D9-7C2B4BAA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EF52D-978B-4D74-B743-8E97E844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0C6D7-094E-40B1-91E3-A62B04A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5A0C5-D50F-4D41-ABE6-D611D75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A52BA-BC97-4619-9F81-9FC8851B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2D2-B56C-44CC-B65E-92A62980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1E08-593C-4A13-9832-70F2450D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AE056-EF0B-490F-AE15-3C97F2FC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69E6D-C1C1-418E-A4ED-5419F33B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1F961-28AC-4F19-B5EC-D0898FD8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362DF-8149-4615-865E-1E511967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E2D1-82A9-45C8-B845-5327CC9C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8379-530C-4E48-8DFF-F244CEA4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CE71-B1E1-4B22-9D4F-8FC9E626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28482-C320-47D4-BDE0-39B6CC51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8E791-9CBF-4329-8536-F11D0759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EDA-ABF0-414E-8A52-47632E8F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73815-D75C-4E00-B3A7-23548788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1E5CA-44EB-4CDE-90D8-2D087D75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49C58-1ECE-4CC2-A792-15A445BA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E58-BC89-49B6-9D09-5BF55986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8ED-4C56-4CA7-A579-BDAEFDA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FBA0-19D5-46C9-AC10-640F93357D5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ED87-F643-4108-89C2-46A80F198A7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52B1-0A74-4CF1-AE2C-ED1C5E90182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63AF-33CB-46F9-B180-405EAB791FC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6FE8-B339-4B36-8637-29CCDBE64831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1AEB-60D5-4AD6-9BDB-C8CCC568C4C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5EEC-3882-42AE-A67B-197A5723BD2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0FA3-ACB4-4A58-96D2-3952EF68D665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008E-DE82-4F72-A89E-FA5D3F10E288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F3E6-B07A-4EAC-9915-78581A77F1B9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8249-2601-41EC-B28B-65F661E5222E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0F59-75F2-408E-8293-B98700FC9B98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195-8871-4FFC-9A52-267348BB986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1905120" y="304920"/>
          <a:ext cx="494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494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69B6-D118-4DCE-9C86-DF4EFA613BA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940040" y="380880"/>
          <a:ext cx="486864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380880"/>
                    <a:ext cx="486864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FFBB-0064-4F06-9C34-BEBA6FE48EE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048040" y="380880"/>
          <a:ext cx="450504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380880"/>
                    <a:ext cx="450504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52:05Z</dcterms:modified>
  <cp:revision>267</cp:revision>
  <dc:subject/>
  <dc:title>PowerPoint Presentation</dc:title>
</cp:coreProperties>
</file>