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324-218D-492C-BD59-58CEAFD5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131-567E-4F35-B92A-69BA8CFE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D2B-ED9D-402F-A528-4E2AB01A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EA27-51AB-451B-B0DA-66F5F0A7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2911-9D8E-4AA2-A85C-B541FCDB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2026-4D22-46FD-ADBE-4D757811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CC1B-FE57-4405-AF6D-0C1B082F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DDBC-2526-48F4-9DD5-8C9DE526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8B63-F3DD-424E-AF86-618DC196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3397-C7AF-4CA5-A181-703CFA9D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F336-D185-48FD-86C8-D5FE08A7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2AB0-DD1F-4B7C-9370-0E35343A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7F6E-BCBD-4584-A592-9DC78AB4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E8EB-FFCF-4D48-8A5A-FDC6611F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0E3B-ACA6-4BE1-AC70-1804D404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6562-0A72-4E23-8485-96205146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D9DA-B0DF-4A4E-AF99-0D2F17C1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59101-1047-4E9E-AD5F-F66896E4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5E0F0-9DFB-49AC-8C16-AA3DDDD1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93B7A-FB65-457F-8C63-3D394A2F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9DF3C-7A05-4F3F-B89D-691B71CA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7DABF-6648-47D2-A3CC-BF9E81EB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C33-1E96-48F3-994C-239C2E03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52B07-A364-4F0C-AC06-65C34C42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2A777-2F1F-48CF-89B7-858B01A9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EBB98-84C4-4BD6-BB44-A723636B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238B6-9A49-4C22-ACE2-262189E9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A19BA-698B-4AB7-8F58-327CF720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B50E2-2474-44B2-8AE9-4FE9D04C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7543D-8F65-42E5-8D9E-FBA5F410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3749E-F719-40EC-B26E-877A1897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ED896-9B9B-48E5-8992-6AF18804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AF08E-8FD4-4C16-814C-36C4404D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99A3-298B-4D6F-A46E-D5E99BD0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FCBFA-6D8E-417C-B86F-66717475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B90FA-2435-4173-BB08-B0D449FC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463DA-3A1D-4E47-A978-057908D9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FC9C7-6D56-4292-B19F-A07A4DEC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C55DA-1AEB-4BE5-811A-32161EE0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B2BE6-373C-44F3-B0F7-3F0438F2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AF419-80E7-4D22-B9B0-B75769F6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E8E8C-B72C-4F4B-B446-EFBFBB80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C3460-AB7F-428B-8C86-46198D7C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477BB-A6D7-4E39-869B-A1A7A5C9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2DD-A4F4-4165-AC82-28A3A4BC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A1D9A-1F87-49C4-A120-65D73F3D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3C609-C9F3-4E53-ADB9-D229ECEA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8C784-F1B9-4831-AF3E-DD2D3EC9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47202-5EE6-424E-B15D-906D7121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2CDD4-916F-4CAC-B86B-04F25510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0FF1A-F798-4ECD-BADC-37AE91CE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067ED-3A64-496B-ACAA-E03DE054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EDC70-2058-4414-A7DB-54CAA427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ADFA3-52BE-4BC9-BB58-DBE05954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7429C-ABBD-470A-BEB9-A9736A92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1BC-4066-4674-8B28-0053EEB0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55E2C-E338-4D4C-8470-2ADA55AC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97FF1-E9E6-411D-A722-FBAEBB8A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45CF5-DA07-45E7-B5B7-1B3A6C4B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78EDF-7280-4650-8C7C-785CEB5E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ABDCF-5822-4018-B758-4CD70879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A3863-0A89-4909-8FEC-56E69899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3D169-F1D8-4C1C-A9C6-C0722C7E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1B87E-9ED8-4101-A1F5-B2E60EF5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172CE-C18F-43D9-980A-B525D375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7FF65-14B4-46A4-8251-AB24B9C2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81BA-04B9-4496-BBD9-03567DE1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587C9-95D8-45A2-87CC-2334BD82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D6234-C08A-4BF5-9262-1828C632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91C84-B118-4E30-B1DE-E2CE2B06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412F-C1D2-49CE-8A42-1D3C564D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7137-93C9-4153-A7F6-482B9C4A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C4E6-2D93-45FE-9990-EF809EDACEEF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49CA-438F-418B-857B-B07CC97EC832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069F-2DFA-4086-8DBB-BFBA1A1BD2C5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76A8-A8C4-43D5-854B-9A1903C4860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807A-6E7A-465B-8E25-1C260C409088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0BC2-428D-476A-B978-A9CF66C0EA40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6D7C-FE5E-42EF-860C-7EA679AA0FEF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0223-2A6B-4D03-95ED-056FD189F71E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7ACD-4A04-4C72-A07C-42EDFF7B7FE6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8040-B6C5-41BF-871A-33DCA1C52625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DB31-AF89-4652-BD9B-E7D713227AF2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342A-8F50-4094-96A5-636A8EF2B822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" descr="C:\Users\hory\Desktop\IMG_0002.jpg"/>
          <p:cNvPicPr/>
          <p:nvPr/>
        </p:nvPicPr>
        <p:blipFill>
          <a:blip r:embed="rId1"/>
          <a:stretch/>
        </p:blipFill>
        <p:spPr>
          <a:xfrm>
            <a:off x="2133720" y="228600"/>
            <a:ext cx="4279680" cy="64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36A6-E445-45EF-9782-CA865F6CC652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2"/>
          <p:cNvGraphicFramePr/>
          <p:nvPr/>
        </p:nvGraphicFramePr>
        <p:xfrm>
          <a:off x="2133720" y="762120"/>
          <a:ext cx="45050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762120"/>
                    <a:ext cx="45050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2146-3E57-4CA1-82F2-4F14F4B909D0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2"/>
          <p:cNvGraphicFramePr/>
          <p:nvPr/>
        </p:nvGraphicFramePr>
        <p:xfrm>
          <a:off x="2041560" y="609480"/>
          <a:ext cx="4740120" cy="613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1560" y="609480"/>
                    <a:ext cx="4740120" cy="61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D25F-E450-4D1B-B05E-C1B98E89C376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2"/>
          <p:cNvGraphicFramePr/>
          <p:nvPr/>
        </p:nvGraphicFramePr>
        <p:xfrm>
          <a:off x="2057400" y="762120"/>
          <a:ext cx="4572000" cy="59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762120"/>
                    <a:ext cx="4572000" cy="59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8:48:30Z</dcterms:modified>
  <cp:revision>262</cp:revision>
  <dc:subject/>
  <dc:title>PowerPoint Presentation</dc:title>
</cp:coreProperties>
</file>